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53BA8C9-A8A8-4BB7-9D0D-7100A22D5B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EB8EEE0-F2AE-4007-BC2B-29CAA8439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9DC4BA0-4F68-4B6E-8E29-67ABEAD26BA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60640" y="69048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mitments are often made when little is know about a projec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If you can’t plan early, plan often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 Humphre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plan is a snapshot of what needs to be don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d on what you know at the tim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ould be revisited when new information is gain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justments can be made if early warning is giv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intent is not to continuously reset the end dates, but to continuously reexamine the amount of work left to do to reach the end da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TSP development strategy encourag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mental 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erative 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ultiple builds or cyc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ing ahe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7B916F3-6FC9-4A8C-9825-F3ED1B607E3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9D38A56-B10B-40DE-814C-603D447B204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066680" y="4528800"/>
            <a:ext cx="467064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64D07F4-CEAD-4932-A2A9-A469AA79765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960560" y="61596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564840" y="2779560"/>
            <a:ext cx="5737320" cy="5800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AU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BE4232-9150-494B-90CE-24DA244D184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960560" y="61596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564840" y="2779560"/>
            <a:ext cx="5737320" cy="5800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AU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D660629-BDE8-43A4-A475-CF0D5F39A5E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960560" y="61596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564840" y="2779560"/>
            <a:ext cx="5737320" cy="5800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AU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FA19CB9-FD69-4EB5-9D9B-E0CADE2EA30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992240" y="639720"/>
            <a:ext cx="2660760" cy="19954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A409B68-970E-4888-8137-FED4C9CE7FF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6653-3B99-4D0B-9FA3-12181ED9DFA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68BB-9605-41B6-9663-EBD35E63E65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2977-61BD-4A06-8F5C-D625468701E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F007-4015-40C6-AD45-3DA3B48BF49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Placeholder 5" descr=""/>
          <p:cNvPicPr/>
          <p:nvPr/>
        </p:nvPicPr>
        <p:blipFill>
          <a:blip r:embed="rId3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3"/>
          <p:cNvSpPr/>
          <p:nvPr/>
        </p:nvSpPr>
        <p:spPr>
          <a:xfrm>
            <a:off x="4413240" y="6411960"/>
            <a:ext cx="2060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ersonal Software Process 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for Engineers: Part 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6085080" y="6450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Approved for public release 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913B-B42A-4D26-B12A-591806AAC9F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51D4-14C6-450B-910B-BCD85F33C0E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3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B814-39F6-4E14-9DAD-BA9915C9EBE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E5A1-481E-4E58-A168-456D58E6047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3"/>
          <p:cNvSpPr/>
          <p:nvPr/>
        </p:nvSpPr>
        <p:spPr>
          <a:xfrm>
            <a:off x="4184640" y="640872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Title of the Presentation Goes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5724360" y="6411960"/>
            <a:ext cx="341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This material has been approved for public release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1227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ittsburgh, PA 15213-3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Introduction to PSP and TSP - </a:t>
            </a:r>
            <a:fld id="{D627589B-5419-4222-BC7C-B9B51A8DE97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0"/>
          <p:cNvSpPr/>
          <p:nvPr/>
        </p:nvSpPr>
        <p:spPr>
          <a:xfrm>
            <a:off x="1041480" y="150804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</a:t>
            </a:r>
            <a:r>
              <a:rPr b="1" lang="en-US" sz="3100" spc="-1" strike="noStrike" baseline="30000">
                <a:solidFill>
                  <a:srgbClr val="000000"/>
                </a:solidFill>
                <a:latin typeface="Arial Narrow"/>
              </a:rPr>
              <a:t>SM</a:t>
            </a: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Using the PSP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es the TSP Do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SP establishes an environment that builds, develops, uses, and supports self-directed team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elf-directed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s its own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es its own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s on its own development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s its own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s its own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, manages, and controls its own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directed teams are jelled teams and they do the best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ment will agree to you and your team mates working as a self-directed team as long as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ive to meet their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rly report on your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ince them that your plans are sou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quality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d to changing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e to them for help when you need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this is not hard for you to do, it ta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iplined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idance and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ing Needed Skill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shows you how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and manage your personal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data to make sound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 the quality of your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quality products on predictable sched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e TSP, you use these skills to convince management to support self-directed team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SP launch starts you on this ro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Structure and 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60560" y="1634760"/>
            <a:ext cx="38210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SP launch kicks off each major project p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builds a common understanding of the work and the way to do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mbers produce plans to guide their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equent phases kick off with a TSP relaun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4" descr="S13"/>
          <p:cNvPicPr/>
          <p:nvPr/>
        </p:nvPicPr>
        <p:blipFill>
          <a:blip r:embed="rId1"/>
          <a:stretch/>
        </p:blipFill>
        <p:spPr>
          <a:xfrm>
            <a:off x="5381640" y="1690560"/>
            <a:ext cx="32558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SP Launch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SP launch is a four-day workshop involving the team and manag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leader and all team members particip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unch workshop is not a course; it is part of the projec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unch workshops are planned and track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SP Launch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SP launch performs essential tas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out the launch, these tasks are not generally addressed until well into the project, if th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 it is often too late to prevent probl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late-discovered problems usually cause del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unch workshop accelerates team building.  It b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mmon understanding of the jo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reement on how to do the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itment to a team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ment support for th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ducts needed to get managemen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SP Launch Pro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192888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71360" y="1538280"/>
            <a:ext cx="183528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usiness nee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nagement go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duct require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241200" y="4527720"/>
            <a:ext cx="1467000" cy="16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am go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ceptual desig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lanned 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ize estima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3162240" y="4527720"/>
            <a:ext cx="159408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ask hour p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chedule p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arned-value p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1714680" y="4527720"/>
            <a:ext cx="1593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am strateg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am 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4635360" y="4527720"/>
            <a:ext cx="15940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am ro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ask pl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tailed pl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1"/>
          <p:cNvSpPr/>
          <p:nvPr/>
        </p:nvSpPr>
        <p:spPr>
          <a:xfrm>
            <a:off x="6083280" y="4527720"/>
            <a:ext cx="159552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Quality p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2"/>
          <p:cNvSpPr/>
          <p:nvPr/>
        </p:nvSpPr>
        <p:spPr>
          <a:xfrm>
            <a:off x="7542360" y="4527720"/>
            <a:ext cx="137772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isk eval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isk mitigation pl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lternate pl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3" descr="S16"/>
          <p:cNvPicPr/>
          <p:nvPr/>
        </p:nvPicPr>
        <p:blipFill>
          <a:blip r:embed="rId1"/>
          <a:stretch/>
        </p:blipFill>
        <p:spPr>
          <a:xfrm>
            <a:off x="279360" y="2703600"/>
            <a:ext cx="8583480" cy="18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42760" y="876240"/>
            <a:ext cx="7707240" cy="6336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unch Process Meet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95000" y="164772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185640" y="164772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5014440" y="164772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6782760" y="164772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7" descr="S17"/>
          <p:cNvPicPr/>
          <p:nvPr/>
        </p:nvPicPr>
        <p:blipFill>
          <a:blip r:embed="rId1"/>
          <a:stretch/>
        </p:blipFill>
        <p:spPr>
          <a:xfrm>
            <a:off x="1090440" y="2098800"/>
            <a:ext cx="696312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Meeting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ing 1 provides the developers the information they need to produce their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ing 1 is typically led by the TSP coa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genda is as follow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nsor: opening com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ach and attendee introdu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ach: review of meeting objectives and 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management: project 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ing/customer: project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s and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1 Strategy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ment usually describes the needed products and schedu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this “solution” is usually aggressive, it only represents one possible way to do the j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must understand management’s true needs to address th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even imply that you think management’s objectives are unrealis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attitude should be: “If that is what management wants,  we will do our utmost to do it.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6240" y="874440"/>
            <a:ext cx="8267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Topic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80560" y="1465200"/>
            <a:ext cx="7559640" cy="43308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5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ing on a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TS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unching a TSP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ing on a TSP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ding com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1 Strategy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 1, the team should ask enough questions to understand what management nee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s 2 through 8, the team will strive to produce a plan that meets these nee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the team, the team leader, and the TSP coach attend  these meet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, in meeting 9, the team will meet with management and other invited parties to review the team’s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Meeting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ing 2 has two object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obtain agreement on the team’s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establish the team member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leader typically leads the team through the goals discussion, with help from the TSP coa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start with management’s stated go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 you review the implied but unstated go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t, you agree on the team’s go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ly, you define goal meas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you agree on the goals, the team leader and coach guide the team through team role sele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SP Rol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SP roles establish responsibilities for team ope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velopment roles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stomer interface manager – focal point for requirements and customer-related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manager – establishes design standards and guides the design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manager – defines the implementation standards and handles implementation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 manager – ensures that test issues are properly considered and handles test planning and coord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SP Rol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SP support roles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ing manager – helps the team maintain, track, and report on the plan and plan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manager – guides the process definition work, handles PIPs, and monitors process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manager – reviews process and product quality and monitors team insp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manager – ensures that proper support tools and aids are available and handles support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assigns additional roles for security, safety, usability, and so forth if they are nee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am Leader 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leader typically does not take any team ro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leader’s responsibilities are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team leadership – sustain motivation, prioritize the work, guide team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tain team communication – run weekly meetings and communicate management needs and 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tain resources – get needed staffing and protect team members from non-project de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 to management – inform management about team progress and issues and get help when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any but very small teams, the team leader does not have time to do much if any development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2 Pro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 2, the team produces and documents two produ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each go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on goal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member responsibility for tracking the 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e the team’s goals with management’s 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mber assigned to each team r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additional roles that the team feels are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Meeting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 3, the tea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s the products to be pro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rees on a product conceptual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s a project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s the development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e coach’s guid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leader leads the team in defining its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leader also leads the team in establishing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sign manager leads the effort to produce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ptual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cess manager leads the team in defining i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3 Pro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 3, the team produces and documents four produ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ist of the project’s planned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duct conceptual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’s development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’s development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Meeting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 4, the team develops its top-down plan for the entire j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ther the job lasts 5 weeks or 5 years, the team’s top-down plan covers final product deliv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 duration is defined by the duration of the team’s commitment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 five-year project, if the commitment is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phase, the team makes a one-phas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commitment is for five years, the team makes a five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ear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4 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 4, teams first develop a detailed product size estim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, based on their defined process, the team members define the job’s tasks and estimate the time for ea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meeting 4, the team often discovers that it cannot meet management’s needs with the available resour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then devises alternate plans with varied mixes of resource, function, and schedu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in Te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87480" y="1601640"/>
            <a:ext cx="7410240" cy="48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>
              <a:spcBef>
                <a:spcPts val="1001"/>
              </a:spcBef>
              <a:tabLst>
                <a:tab algn="l" pos="0"/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ful teams are both satisfying and r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hough many teams come close to meeting their product and business goals, they often do so at the expense of the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something magical about an effective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9720" indent="-181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has an ethic, an attitude, and an energy that permeate everything it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9720" indent="-181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eammates support one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9720" indent="-181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y intuitively know when and how to hel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9720" indent="-181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y rally around at just the righ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9720" indent="-181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members are part of a common eff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9720" indent="-181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y have a sense of belonging and a feeling of camaraderi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Introduction to the TEAM Software Proces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, Watts Humphr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at we call a “jelled tea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4 Pro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 4, the team produces the following produ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size estim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-hour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chedul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arned-valu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or more alternate plans if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Size Estim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1017720" y="3413160"/>
            <a:ext cx="3630600" cy="11858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17360" y="1743120"/>
            <a:ext cx="717228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P teams typically document their size estimates in a TSP support t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ze estimates look lik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Task and Resource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44360" y="1557360"/>
            <a:ext cx="7621560" cy="16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sk list includes the product assembly, process phase, task, team assignment, estimated size, and development 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641520" y="2716200"/>
            <a:ext cx="80229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Meeting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 5, the team makes its quality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mbers estimate the defects injected from historical defect-injection rates and planned phase tim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also use historical yield data to estimate defects removed by p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discusses and agrees on the quality management strategy and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eting 5 product is a quality plan with delivered product defects and projected defects injected and removed by p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3040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the quality plan, the team enters defect-injection and yield data and the TSP support tool calculates the defects injected and removed by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5187960" y="1709640"/>
            <a:ext cx="2855880" cy="2219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"/>
          <p:cNvPicPr/>
          <p:nvPr/>
        </p:nvPicPr>
        <p:blipFill>
          <a:blip r:embed="rId2"/>
          <a:stretch/>
        </p:blipFill>
        <p:spPr>
          <a:xfrm>
            <a:off x="987480" y="2973240"/>
            <a:ext cx="386064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Meeting 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 6, the team members make personal plans for the next plan period – typically three to five month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planning manager leads this effort, under the guidance of the TSP coa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o will handle each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 plans for the assigned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olidated team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reviews the consolidated plan and rebalances team-member workload if nee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eting 6 products a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anced team member pla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nsolidated overall team plan and alternate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Meeting 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 7, the team assesses the plan’s perceived ris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isk may or may not happen while an issue is certain to happ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decides which risks to track and manage and what mitigation plans are nee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eting product is a list of the risks with ea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ed on likelih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ed on seve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ed to a team member for tra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Meeting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 8, the team prepares its meeting 9 plan presentation to manag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ypical meeting 9 agenda is as follow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brief summary of the meeting 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eview of the launch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ummary of the team’s and management’s goal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member role 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velopment strategy and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lan and principal alternate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y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sk evaluation and mitig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s and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8 Strateg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leader typically presents the plan with team members participating as the team choo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important to provide summary plan information but to also have the details available if reques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ducts of meeting 8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heads for the meeting 9 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out copies of the plan mate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ikely management questions and the team’s agre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list of the help needed from management to impl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Meeting 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, team leader, coach, management, and invited visitors attend meeting 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eting purpose is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e team’s plan to manag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swer management’s ques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management’s approval of the plan or selec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eeded actions, who will take them, and w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eting product is typically an approved plan or the actions needed to get approv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management does not agree with any of the plans, they usually decide to reconsider their nee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lled Te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lled teams do the best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bjective of the TSP is to build and maintain jelled tea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9 Strateg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advisable to start meeting 9 with a statement like:  “We could not precisely meet your requirements but we have developed several alternate plans that we believe come reasonably close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tells management what to expect and allows them to listen rather than to poke at every potential plan weakn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should explain how the plan was ma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ata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ssumptions m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they had to gu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Postmor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unch postmortem is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olidate the plan and launch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the launch process and produce P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uss open issues and agree on how to handle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inal launch steps are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responsibility for the project notebook (often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manag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responsibility for handling the P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e launch data in the project note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the launch data to the S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on a TSP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you have management support to launch a TSP team, you need to keep that suppo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requires that you and your teammates do five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 the process you have def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tain the individual and team pl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 product qua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rly track and report your progr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ally demonstrate high perform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llowing the Proces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though you defined the process yourself, it will likely be a challenge to follow it consisten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ing time, size, and defect data takes little time but is easy to forg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you do forget, just enter your best estim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out good time, size, and defect data, you cannot precisely manage the project schedule or product qua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tory demonstrates that, without precise management, software projects usually fai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llowing the Proces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key to following the process is to recognize that the longer you do it, the better you will get at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most exciting is that, as your process fidelity improves, so will your job perform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n turn will impro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pride in your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y of your produc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credibility with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anagement values you as an employ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taining the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llenging and dynamic fields like software face constant 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we develop products, we learn more about what is needed, how to build it, and how to improve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incorporate this continual learning, we must update our pl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ep old plan copies, but don’t hesitate to change the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don’t, you will not be able to track and report on the wor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king Product Qu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data provide a wealth of information that help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 the quality of your work as you do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and improve the quality of each process st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e the quality of your products as you build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ich products have marginal quality and shoul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rewor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ost useful quality measures are yield, A/FR, review rates, defects/size, and PQ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ect Data by Ph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PSP data, TSP tools can display lots of useful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example is the  percentage of actual or planned defects injected by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is the defect distribution removed by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1"/>
          <p:cNvGrpSpPr/>
          <p:nvPr/>
        </p:nvGrpSpPr>
        <p:grpSpPr>
          <a:xfrm>
            <a:off x="4649760" y="1566720"/>
            <a:ext cx="4441680" cy="4911840"/>
            <a:chOff x="4649760" y="1566720"/>
            <a:chExt cx="4441680" cy="4911840"/>
          </a:xfrm>
        </p:grpSpPr>
        <p:pic>
          <p:nvPicPr>
            <p:cNvPr id="357" name="Picture 12" descr=""/>
            <p:cNvPicPr/>
            <p:nvPr/>
          </p:nvPicPr>
          <p:blipFill>
            <a:blip r:embed="rId1"/>
            <a:stretch/>
          </p:blipFill>
          <p:spPr>
            <a:xfrm>
              <a:off x="4649760" y="1566720"/>
              <a:ext cx="4441680" cy="245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13" descr=""/>
            <p:cNvPicPr/>
            <p:nvPr/>
          </p:nvPicPr>
          <p:blipFill>
            <a:blip r:embed="rId2"/>
            <a:stretch/>
          </p:blipFill>
          <p:spPr>
            <a:xfrm>
              <a:off x="4649760" y="4027320"/>
              <a:ext cx="4441680" cy="245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ed TSP Quality Profi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1" descr="S48"/>
          <p:cNvPicPr/>
          <p:nvPr/>
        </p:nvPicPr>
        <p:blipFill>
          <a:blip r:embed="rId1"/>
          <a:stretch/>
        </p:blipFill>
        <p:spPr>
          <a:xfrm>
            <a:off x="160200" y="1735200"/>
            <a:ext cx="87696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king and Reporting Prog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s always have questions and the less they know, the more they as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the team falling behin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everybody working har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l they meet the next mileston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can I do to keep them on schedu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can I tell senior management about project statu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e a self-directed team, you need management’s tru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keep management’s trust, answer these questions before they think to ask th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takes data, analysis, and regular repor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Intellectual 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o complex and high-quality intellectual work, software professionals m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ly understand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the problem an interesting challe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nt to solve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he flexibility to solve the problem their own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developers like to work this w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highly rewarding to work on a team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s common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s cooperatively to meet its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Progress Indic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70768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dequate working hours per week is often an early sign that the team is falling behind and needs management hel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798480" y="2379600"/>
            <a:ext cx="755028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ekly Team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5120" y="1665360"/>
            <a:ext cx="7767720" cy="19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P teams review their status, progress, and plans every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ekly summary report provides all the data needed to precisely determine project status and rate of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ata provide the information you need for management repo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542880" y="3774960"/>
            <a:ext cx="80344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nstrate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d work is satisfying, profitable, and fun but it is also invisi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, most development organizations use crisis manag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typically work on the crises and ignore everything el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e TSP, you will rarely have crises and never have schedule surpri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less you regularly advertise your successes, your work will not be noticed and you will lose management suppo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xt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you complete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SP for Engine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urse, you are qualified to be a TSP team memb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may also train to be an authorized PSP instructor and TSP coa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Instructor Tra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I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SP Instructor Train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urse teaches you to teach the PSP and TSP cour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SP executive semin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SP management tra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ersonal process cou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I and PSP II engineering cour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an authorized PSP instructor, you can become licensed to use the SEI course materi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are also required to provide student data and course evaluations for each course you tea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or Training Requi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5480" y="1701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ry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 a written pre-test (open-bo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your PSP student data to the SEI for screening to ensure that you have a basic understanding of the P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vious teaching or public speak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the five-day training course at the SEI within eighteen months of completing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SP for Engine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u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 your PSP data and a case stu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 a qualification exam (closed-bo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ch Training Purpo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5480" y="1716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I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SP Coach Train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aches you to coach TSP tea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a five-day course taught at the SE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attend you must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an SEI-authorized PSP instru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TSP license agreement between your organization and C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qualify as a TSP coach, SEI must observe you successfully launch a TSP te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Cert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5480" y="1716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a certified PSP professional, you will have recognized evidence of your professional competence in software enginee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will make you more attractive as a potential employee and add to your professional sta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find out more about the PSP certification process, contact the SE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ding Com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PSP training, you now have the skills and knowledge to do superior software enginee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ese skills come responsibil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fulfill these responsibilities, it is helpful to consider your personal go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ponsible Professio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045800" y="15807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a responsible professional, you need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and learn new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se methods in your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your strengths and weakn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reas for impr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actice, practice, pract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ize the methods that you find helpf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from hi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will assure your continuing professional growth and improv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Successful Teams Evol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bility of a team to effectively work together develops over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ms generally begin wi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erse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lear sense of responsi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gue ideas about the product to be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ying approaches to the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ime, team members may converge on a common understanding of these fac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then can they do their best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06200" y="1033200"/>
            <a:ext cx="7815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Do You Want from Software Engineering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017360" y="16236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your personal objectiv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prisingly often, we achieve our objectives in ways that we did not expect, so keep an open mind and keep look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we all reach the same end, we should concentrate on the rou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can occasionally achieve excellence, it could be well worth the tri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ments of Team Memb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88920" y="162360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skilled members are essential, technical skills alone are not enoug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-performance teamwork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inter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lves shared commi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work this way, the team members m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personally discipl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ir own abil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realistic commit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TSP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SP is a framework and a process structure for building and guiding engineering tea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SP cont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team-build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ocess that builds shared goals, commitments, and cohe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team-work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ocess that guides the team’s  engineering processes and practi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erequisite for TSP teams is mastery of the software engineering and process skills taught in the PSP cou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87400" y="853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ing Effective Teams with the TS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0" descr="S9"/>
          <p:cNvPicPr/>
          <p:nvPr/>
        </p:nvPicPr>
        <p:blipFill>
          <a:blip r:embed="rId1"/>
          <a:stretch/>
        </p:blipFill>
        <p:spPr>
          <a:xfrm>
            <a:off x="655560" y="1538280"/>
            <a:ext cx="8099640" cy="507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3:52Z</dcterms:modified>
  <cp:revision>145</cp:revision>
  <dc:subject/>
  <dc:title>No Slide Title</dc:title>
</cp:coreProperties>
</file>